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C199-30EC-4D4C-80D5-E70471F18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перо и выделение для построения точек и графика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1FF7-6113-413C-9DBA-FB5735B194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гиперссылки для перехода в необходимый раз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99E8-07FE-4BE4-AB89-72C86F91CC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BF35-BBEC-44D1-AD1F-B63FDACD697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триггер. При нажатии на жёлтый прямоугольник – ответ на вопрос, какова скорость. При нажатии на розовый прямоугольник – проверка правильности ответа по граф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B6D-8327-4C3B-B79D-BD6A1884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604-10F1-4210-838B-D285B04E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454-A52C-4B1B-83ED-DD1FB604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753-173A-4EB0-81DD-308D2D25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13F-E0F1-4C7E-98DF-38C06993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C7F-2A1B-4334-8E88-8C4E8C93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580-3F9A-4046-9C62-C0B3FE50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D0A-A8AE-4CA1-8375-8C737FD8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B9F-73F5-4669-A8E5-AD2CA5EB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6F9-D88B-49D8-B672-3DE72235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74B-BC83-4D80-A973-F9C8509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746-2A54-4479-A18C-84262215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FCFD-46C5-4001-B0CD-BB552D60D18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8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7;&#1091;&#1087;&#1077;&#1088;%20&#1092;&#1080;&#1079;&#1082;&#1091;&#1083;&#1100;&#1090;&#1084;&#1080;&#1085;&#1091;&#1090;&#1082;&#1072;%20&#1076;&#1083;&#1103;%20&#1091;&#1088;&#1086;&#1082;&#1072;.mp4" TargetMode="External"/><Relationship Id="rId2" Type="http://schemas.openxmlformats.org/officeDocument/2006/relationships/hyperlink" Target="file:///&#1057;&#1091;&#1087;&#1077;&#1088;%20&#1092;&#1080;&#1079;&#1082;&#1091;&#1083;&#1100;&#1090;&#1084;&#1080;&#1085;&#1091;&#1090;&#1082;&#1072;%20&#1076;&#1083;&#1103;%20&#1091;&#1088;&#1086;&#1082;&#1072;.mp4" TargetMode="Externa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700520" y="457200"/>
            <a:ext cx="427824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3"/>
          <p:cNvSpPr/>
          <p:nvPr/>
        </p:nvSpPr>
        <p:spPr>
          <a:xfrm>
            <a:off x="336600" y="2971800"/>
            <a:ext cx="8648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바탕"/>
                <a:ea typeface="바탕"/>
              </a:rPr>
              <a:t>График функции.</a:t>
            </a:r>
            <a:r>
              <a:rPr b="0" lang="ru-RU" sz="6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6"/>
          <p:cNvSpPr/>
          <p:nvPr/>
        </p:nvSpPr>
        <p:spPr>
          <a:xfrm>
            <a:off x="463680" y="4065480"/>
            <a:ext cx="7624800" cy="2273400"/>
          </a:xfrm>
          <a:custGeom>
            <a:avLst/>
            <a:gdLst/>
            <a:ahLst/>
            <a:rect l="l" t="t" r="r" b="b"/>
            <a:pathLst>
              <a:path w="7624689" h="2273430">
                <a:moveTo>
                  <a:pt x="0" y="2180500"/>
                </a:moveTo>
                <a:cubicBezTo>
                  <a:pt x="73855" y="1092598"/>
                  <a:pt x="147711" y="4697"/>
                  <a:pt x="309489" y="14076"/>
                </a:cubicBezTo>
                <a:cubicBezTo>
                  <a:pt x="471268" y="23454"/>
                  <a:pt x="780757" y="2100783"/>
                  <a:pt x="970671" y="2236771"/>
                </a:cubicBezTo>
                <a:cubicBezTo>
                  <a:pt x="1160585" y="2372759"/>
                  <a:pt x="1324708" y="834691"/>
                  <a:pt x="1448972" y="830002"/>
                </a:cubicBezTo>
                <a:cubicBezTo>
                  <a:pt x="1573236" y="825313"/>
                  <a:pt x="1652953" y="2138298"/>
                  <a:pt x="1716258" y="2208636"/>
                </a:cubicBezTo>
                <a:cubicBezTo>
                  <a:pt x="1779563" y="2278974"/>
                  <a:pt x="1795975" y="1261411"/>
                  <a:pt x="1828800" y="1252033"/>
                </a:cubicBezTo>
                <a:cubicBezTo>
                  <a:pt x="1861625" y="1242655"/>
                  <a:pt x="1885071" y="2107818"/>
                  <a:pt x="1913206" y="2152365"/>
                </a:cubicBezTo>
                <a:cubicBezTo>
                  <a:pt x="1941341" y="2196912"/>
                  <a:pt x="1967132" y="1509940"/>
                  <a:pt x="1997612" y="1519319"/>
                </a:cubicBezTo>
                <a:cubicBezTo>
                  <a:pt x="2028092" y="1528697"/>
                  <a:pt x="2060917" y="2201602"/>
                  <a:pt x="2096086" y="2208636"/>
                </a:cubicBezTo>
                <a:cubicBezTo>
                  <a:pt x="2131255" y="2215670"/>
                  <a:pt x="2180493" y="1561522"/>
                  <a:pt x="2208628" y="1561522"/>
                </a:cubicBezTo>
                <a:cubicBezTo>
                  <a:pt x="2236763" y="1561522"/>
                  <a:pt x="2236763" y="2161744"/>
                  <a:pt x="2264898" y="2208636"/>
                </a:cubicBezTo>
                <a:cubicBezTo>
                  <a:pt x="2293033" y="2255528"/>
                  <a:pt x="2339926" y="1852254"/>
                  <a:pt x="2377440" y="1842876"/>
                </a:cubicBezTo>
                <a:cubicBezTo>
                  <a:pt x="2414954" y="1833497"/>
                  <a:pt x="2461846" y="2142986"/>
                  <a:pt x="2489981" y="2152365"/>
                </a:cubicBezTo>
                <a:cubicBezTo>
                  <a:pt x="2518116" y="2161744"/>
                  <a:pt x="2520461" y="1894458"/>
                  <a:pt x="2546252" y="1899147"/>
                </a:cubicBezTo>
                <a:cubicBezTo>
                  <a:pt x="2572043" y="1903836"/>
                  <a:pt x="2569698" y="2497023"/>
                  <a:pt x="2644726" y="2180500"/>
                </a:cubicBezTo>
                <a:cubicBezTo>
                  <a:pt x="2719754" y="1863977"/>
                  <a:pt x="2897944" y="-4681"/>
                  <a:pt x="2996418" y="8"/>
                </a:cubicBezTo>
                <a:cubicBezTo>
                  <a:pt x="3094892" y="4697"/>
                  <a:pt x="3165231" y="1976519"/>
                  <a:pt x="3235569" y="2208636"/>
                </a:cubicBezTo>
                <a:cubicBezTo>
                  <a:pt x="3305907" y="2440753"/>
                  <a:pt x="3373901" y="1399744"/>
                  <a:pt x="3418449" y="1392710"/>
                </a:cubicBezTo>
                <a:cubicBezTo>
                  <a:pt x="3462997" y="1385676"/>
                  <a:pt x="3460652" y="2150021"/>
                  <a:pt x="3502855" y="2166433"/>
                </a:cubicBezTo>
                <a:cubicBezTo>
                  <a:pt x="3545058" y="2182845"/>
                  <a:pt x="3624776" y="1493528"/>
                  <a:pt x="3671668" y="1491183"/>
                </a:cubicBezTo>
                <a:cubicBezTo>
                  <a:pt x="3718560" y="1488838"/>
                  <a:pt x="3744351" y="2138297"/>
                  <a:pt x="3784209" y="2152365"/>
                </a:cubicBezTo>
                <a:cubicBezTo>
                  <a:pt x="3824067" y="2166433"/>
                  <a:pt x="3873304" y="1573245"/>
                  <a:pt x="3910818" y="1575590"/>
                </a:cubicBezTo>
                <a:cubicBezTo>
                  <a:pt x="3948332" y="1577935"/>
                  <a:pt x="3934264" y="2419651"/>
                  <a:pt x="4009292" y="2166433"/>
                </a:cubicBezTo>
                <a:cubicBezTo>
                  <a:pt x="4084320" y="1913215"/>
                  <a:pt x="4232030" y="56279"/>
                  <a:pt x="4360984" y="56279"/>
                </a:cubicBezTo>
                <a:cubicBezTo>
                  <a:pt x="4489938" y="56279"/>
                  <a:pt x="4668129" y="1969485"/>
                  <a:pt x="4783015" y="2166433"/>
                </a:cubicBezTo>
                <a:cubicBezTo>
                  <a:pt x="4897901" y="2363381"/>
                  <a:pt x="4972929" y="1242654"/>
                  <a:pt x="5050301" y="1237965"/>
                </a:cubicBezTo>
                <a:cubicBezTo>
                  <a:pt x="5127673" y="1233276"/>
                  <a:pt x="5190978" y="2105472"/>
                  <a:pt x="5247249" y="2138297"/>
                </a:cubicBezTo>
                <a:cubicBezTo>
                  <a:pt x="5303520" y="2171122"/>
                  <a:pt x="5345723" y="1432568"/>
                  <a:pt x="5387926" y="1434913"/>
                </a:cubicBezTo>
                <a:cubicBezTo>
                  <a:pt x="5430129" y="1437258"/>
                  <a:pt x="5467643" y="2100784"/>
                  <a:pt x="5500468" y="2152365"/>
                </a:cubicBezTo>
                <a:cubicBezTo>
                  <a:pt x="5533293" y="2203946"/>
                  <a:pt x="5559084" y="1753780"/>
                  <a:pt x="5584874" y="1744402"/>
                </a:cubicBezTo>
                <a:cubicBezTo>
                  <a:pt x="5610664" y="1735024"/>
                  <a:pt x="5631766" y="2072648"/>
                  <a:pt x="5655212" y="2096094"/>
                </a:cubicBezTo>
                <a:cubicBezTo>
                  <a:pt x="5678658" y="2119540"/>
                  <a:pt x="5688037" y="1875700"/>
                  <a:pt x="5725551" y="1885079"/>
                </a:cubicBezTo>
                <a:cubicBezTo>
                  <a:pt x="5763065" y="1894457"/>
                  <a:pt x="5786511" y="2457165"/>
                  <a:pt x="5880295" y="2152365"/>
                </a:cubicBezTo>
                <a:cubicBezTo>
                  <a:pt x="5974079" y="1847565"/>
                  <a:pt x="6154615" y="51590"/>
                  <a:pt x="6288258" y="56279"/>
                </a:cubicBezTo>
                <a:cubicBezTo>
                  <a:pt x="6421901" y="60968"/>
                  <a:pt x="6541477" y="2159399"/>
                  <a:pt x="6682154" y="2180500"/>
                </a:cubicBezTo>
                <a:cubicBezTo>
                  <a:pt x="6822831" y="2201601"/>
                  <a:pt x="7022123" y="189922"/>
                  <a:pt x="7132320" y="182888"/>
                </a:cubicBezTo>
                <a:cubicBezTo>
                  <a:pt x="7242517" y="175854"/>
                  <a:pt x="7277686" y="1908525"/>
                  <a:pt x="7343335" y="2138297"/>
                </a:cubicBezTo>
                <a:cubicBezTo>
                  <a:pt x="7408984" y="2368069"/>
                  <a:pt x="7479323" y="1587313"/>
                  <a:pt x="7526215" y="1561522"/>
                </a:cubicBezTo>
                <a:cubicBezTo>
                  <a:pt x="7573107" y="1535731"/>
                  <a:pt x="7624689" y="1983553"/>
                  <a:pt x="7624689" y="1983553"/>
                </a:cubicBezTo>
                <a:lnTo>
                  <a:pt x="7624689" y="1983553"/>
                </a:ln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7"/>
          <p:cNvSpPr/>
          <p:nvPr/>
        </p:nvSpPr>
        <p:spPr>
          <a:xfrm>
            <a:off x="174240" y="1600200"/>
            <a:ext cx="89802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Построим график фун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у = х(</a:t>
            </a:r>
            <a:r>
              <a:rPr b="1" lang="en-US" sz="4400" spc="-1" strike="noStrike">
                <a:solidFill>
                  <a:srgbClr val="000000"/>
                </a:solidFill>
                <a:latin typeface="바탕"/>
                <a:ea typeface="바탕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 – х), где -1 ≤ х ≤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230480" y="3505320"/>
          <a:ext cx="6683040" cy="1403280"/>
        </p:xfrm>
        <a:graphic>
          <a:graphicData uri="http://schemas.openxmlformats.org/drawingml/2006/table">
            <a:tbl>
              <a:tblPr/>
              <a:tblGrid>
                <a:gridCol w="685800"/>
                <a:gridCol w="838080"/>
                <a:gridCol w="762120"/>
                <a:gridCol w="761760"/>
                <a:gridCol w="990720"/>
                <a:gridCol w="838080"/>
                <a:gridCol w="914400"/>
                <a:gridCol w="892080"/>
              </a:tblGrid>
              <a:tr h="70164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Box 11"/>
          <p:cNvSpPr/>
          <p:nvPr/>
        </p:nvSpPr>
        <p:spPr>
          <a:xfrm>
            <a:off x="2062080" y="420372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2916360" y="4202280"/>
            <a:ext cx="3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3588120" y="420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4426200" y="4199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5399640" y="4170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6"/>
          <p:cNvSpPr/>
          <p:nvPr/>
        </p:nvSpPr>
        <p:spPr>
          <a:xfrm>
            <a:off x="6260040" y="4191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7234200" y="420696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282160" y="611172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http://gigabaza.ru/images/22/43064/13fd3390.png"/>
          <p:cNvPicPr/>
          <p:nvPr/>
        </p:nvPicPr>
        <p:blipFill>
          <a:blip r:embed="rId1"/>
          <a:stretch/>
        </p:blipFill>
        <p:spPr>
          <a:xfrm>
            <a:off x="2243160" y="914400"/>
            <a:ext cx="6659640" cy="568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281160" y="1455840"/>
          <a:ext cx="1904760" cy="394488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160"/>
              </a:tblGrid>
              <a:tr h="92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то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eorgia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eorgia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69280" y="616104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4550040" y="214200"/>
            <a:ext cx="23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 = х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х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343080" y="685800"/>
            <a:ext cx="8458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ие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Графико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функ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множество всех точек координатной плоскост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абсцисс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торых равны значениям аргумент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ординат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ответствующим значениям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153280" y="6093000"/>
            <a:ext cx="648000" cy="571320"/>
          </a:xfrm>
          <a:custGeom>
            <a:avLst/>
            <a:gdLst>
              <a:gd name="textAreaLeft" fmla="*/ 36720 w 648000"/>
              <a:gd name="textAreaRight" fmla="*/ 611280 w 648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497" h="21600">
                <a:moveTo>
                  <a:pt x="0" y="0"/>
                </a:moveTo>
                <a:lnTo>
                  <a:pt x="24497" y="0"/>
                </a:lnTo>
                <a:lnTo>
                  <a:pt x="24497" y="21600"/>
                </a:lnTo>
                <a:lnTo>
                  <a:pt x="0" y="21600"/>
                </a:lnTo>
                <a:close/>
              </a:path>
              <a:path fill="lightenLess" w="24497" h="21600">
                <a:moveTo>
                  <a:pt x="0" y="0"/>
                </a:moveTo>
                <a:lnTo>
                  <a:pt x="24497" y="0"/>
                </a:lnTo>
                <a:lnTo>
                  <a:pt x="23097" y="1400"/>
                </a:lnTo>
                <a:lnTo>
                  <a:pt x="1400" y="1400"/>
                </a:lnTo>
                <a:close/>
              </a:path>
              <a:path fill="darken" w="24497" h="21600">
                <a:moveTo>
                  <a:pt x="24497" y="0"/>
                </a:moveTo>
                <a:lnTo>
                  <a:pt x="24497" y="21600"/>
                </a:lnTo>
                <a:lnTo>
                  <a:pt x="23097" y="20200"/>
                </a:lnTo>
                <a:lnTo>
                  <a:pt x="23097" y="1400"/>
                </a:lnTo>
                <a:close/>
              </a:path>
              <a:path fill="darkenLess" w="24497" h="21600">
                <a:moveTo>
                  <a:pt x="24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7" y="20200"/>
                </a:lnTo>
                <a:close/>
              </a:path>
              <a:path fill="lighten" w="24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97" h="21600">
                <a:moveTo>
                  <a:pt x="5242" y="3794"/>
                </a:moveTo>
                <a:lnTo>
                  <a:pt x="19255" y="10800"/>
                </a:lnTo>
                <a:lnTo>
                  <a:pt x="5242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http://gigabaza.ru/images/22/43064/13fd3390.png"/>
          <p:cNvPicPr/>
          <p:nvPr/>
        </p:nvPicPr>
        <p:blipFill>
          <a:blip r:embed="rId1"/>
          <a:srcRect l="0" t="18288" r="0" b="0"/>
          <a:stretch/>
        </p:blipFill>
        <p:spPr>
          <a:xfrm>
            <a:off x="2243160" y="1386000"/>
            <a:ext cx="6659640" cy="523080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1"/>
          <p:cNvSpPr/>
          <p:nvPr/>
        </p:nvSpPr>
        <p:spPr>
          <a:xfrm>
            <a:off x="452520" y="1983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바탕"/>
                <a:ea typeface="바탕"/>
              </a:rPr>
              <a:t>Функция задана формул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у = 2х –3, где-2 ≤ х ≤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280" y="1523880"/>
          <a:ext cx="1981440" cy="3675240"/>
        </p:xfrm>
        <a:graphic>
          <a:graphicData uri="http://schemas.openxmlformats.org/drawingml/2006/table">
            <a:tbl>
              <a:tblPr/>
              <a:tblGrid>
                <a:gridCol w="871560"/>
                <a:gridCol w="555840"/>
                <a:gridCol w="554040"/>
              </a:tblGrid>
              <a:tr h="11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то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eorgia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eorgia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Georgia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Box 2"/>
          <p:cNvSpPr/>
          <p:nvPr/>
        </p:nvSpPr>
        <p:spPr>
          <a:xfrm>
            <a:off x="1047960" y="2590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051200" y="3166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1126440" y="3691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"/>
          <p:cNvSpPr/>
          <p:nvPr/>
        </p:nvSpPr>
        <p:spPr>
          <a:xfrm>
            <a:off x="1108440" y="4210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1105200" y="4730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1609920" y="2590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1617840" y="3139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1576800" y="3662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1617840" y="4186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1736280" y="4708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7"/>
          <p:cNvSpPr/>
          <p:nvPr/>
        </p:nvSpPr>
        <p:spPr>
          <a:xfrm>
            <a:off x="4690440" y="5851440"/>
            <a:ext cx="41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9"/>
          <p:cNvSpPr/>
          <p:nvPr/>
        </p:nvSpPr>
        <p:spPr>
          <a:xfrm>
            <a:off x="5073840" y="5064120"/>
            <a:ext cx="3848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eorgia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5979600" y="4321080"/>
            <a:ext cx="3848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eorgia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6387480" y="3743280"/>
            <a:ext cx="414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eorgia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2"/>
          <p:cNvSpPr/>
          <p:nvPr/>
        </p:nvSpPr>
        <p:spPr>
          <a:xfrm>
            <a:off x="6828120" y="2852640"/>
            <a:ext cx="380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eorgia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24"/>
          <p:cNvSpPr/>
          <p:nvPr/>
        </p:nvSpPr>
        <p:spPr>
          <a:xfrm>
            <a:off x="5802480" y="46324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 flipV="1">
            <a:off x="4960800" y="2590560"/>
            <a:ext cx="1989360" cy="385596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8"/>
          <p:cNvSpPr/>
          <p:nvPr/>
        </p:nvSpPr>
        <p:spPr>
          <a:xfrm>
            <a:off x="465840" y="550548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바탕"/>
                <a:ea typeface="바탕"/>
              </a:rPr>
              <a:t>Прове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3"/>
          <p:cNvSpPr/>
          <p:nvPr/>
        </p:nvSpPr>
        <p:spPr>
          <a:xfrm>
            <a:off x="5398920" y="542916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16"/>
          <p:cNvSpPr/>
          <p:nvPr/>
        </p:nvSpPr>
        <p:spPr>
          <a:xfrm>
            <a:off x="5029200" y="61722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26"/>
          <p:cNvSpPr/>
          <p:nvPr/>
        </p:nvSpPr>
        <p:spPr>
          <a:xfrm>
            <a:off x="6553080" y="313992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25"/>
          <p:cNvSpPr/>
          <p:nvPr/>
        </p:nvSpPr>
        <p:spPr>
          <a:xfrm>
            <a:off x="6181560" y="390384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255160" y="6031080"/>
            <a:ext cx="647640" cy="571320"/>
          </a:xfrm>
          <a:custGeom>
            <a:avLst/>
            <a:gdLst>
              <a:gd name="textAreaLeft" fmla="*/ 36720 w 647640"/>
              <a:gd name="textAreaRight" fmla="*/ 610920 w 6476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4" h="21600">
                <a:moveTo>
                  <a:pt x="5235" y="3794"/>
                </a:moveTo>
                <a:lnTo>
                  <a:pt x="19248" y="10800"/>
                </a:lnTo>
                <a:lnTo>
                  <a:pt x="5235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"/>
                            </p:stCondLst>
                            <p:childTnLst>
                              <p:par>
                                <p:cTn id="30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10"/>
                            </p:stCondLst>
                            <p:childTnLst>
                              <p:par>
                                <p:cTn id="308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9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10"/>
                            </p:stCondLst>
                            <p:childTnLst>
                              <p:par>
                                <p:cTn id="314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010"/>
                            </p:stCondLst>
                            <p:childTnLst>
                              <p:par>
                                <p:cTn id="31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510"/>
                            </p:stCondLst>
                            <p:childTnLst>
                              <p:par>
                                <p:cTn id="320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010"/>
                            </p:stCondLst>
                            <p:childTnLst>
                              <p:par>
                                <p:cTn id="32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510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10"/>
                            </p:stCondLst>
                            <p:childTnLst>
                              <p:par>
                                <p:cTn id="32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8510"/>
                            </p:stCondLst>
                            <p:childTnLst>
                              <p:par>
                                <p:cTn id="33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1747800" y="260280"/>
            <a:ext cx="5897520" cy="514512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1"/>
          <p:cNvSpPr/>
          <p:nvPr/>
        </p:nvSpPr>
        <p:spPr>
          <a:xfrm>
            <a:off x="601560" y="540540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Принадлежат ли точки графику функци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1296720" y="5778360"/>
            <a:ext cx="13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М(-3;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3711960" y="577836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О(0,5;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6211080" y="5791320"/>
            <a:ext cx="14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К(1,5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6"/>
          <p:cNvSpPr/>
          <p:nvPr/>
        </p:nvSpPr>
        <p:spPr>
          <a:xfrm>
            <a:off x="3494160" y="1447920"/>
            <a:ext cx="152280" cy="1522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8"/>
          <p:cNvSpPr/>
          <p:nvPr/>
        </p:nvSpPr>
        <p:spPr>
          <a:xfrm>
            <a:off x="2907720" y="957240"/>
            <a:ext cx="5677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818240" y="2928960"/>
            <a:ext cx="500760" cy="6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0"/>
          <p:cNvSpPr/>
          <p:nvPr/>
        </p:nvSpPr>
        <p:spPr>
          <a:xfrm>
            <a:off x="4716360" y="1627200"/>
            <a:ext cx="4734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eorgia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11"/>
          <p:cNvSpPr/>
          <p:nvPr/>
        </p:nvSpPr>
        <p:spPr>
          <a:xfrm>
            <a:off x="4842000" y="2928960"/>
            <a:ext cx="152280" cy="1522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2"/>
          <p:cNvSpPr/>
          <p:nvPr/>
        </p:nvSpPr>
        <p:spPr>
          <a:xfrm>
            <a:off x="5176800" y="2133720"/>
            <a:ext cx="152280" cy="1522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153280" y="6093000"/>
            <a:ext cx="648000" cy="571320"/>
          </a:xfrm>
          <a:custGeom>
            <a:avLst/>
            <a:gdLst>
              <a:gd name="textAreaLeft" fmla="*/ 36720 w 648000"/>
              <a:gd name="textAreaRight" fmla="*/ 611280 w 648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497" h="21600">
                <a:moveTo>
                  <a:pt x="0" y="0"/>
                </a:moveTo>
                <a:lnTo>
                  <a:pt x="24497" y="0"/>
                </a:lnTo>
                <a:lnTo>
                  <a:pt x="24497" y="21600"/>
                </a:lnTo>
                <a:lnTo>
                  <a:pt x="0" y="21600"/>
                </a:lnTo>
                <a:close/>
              </a:path>
              <a:path fill="lightenLess" w="24497" h="21600">
                <a:moveTo>
                  <a:pt x="0" y="0"/>
                </a:moveTo>
                <a:lnTo>
                  <a:pt x="24497" y="0"/>
                </a:lnTo>
                <a:lnTo>
                  <a:pt x="23097" y="1400"/>
                </a:lnTo>
                <a:lnTo>
                  <a:pt x="1400" y="1400"/>
                </a:lnTo>
                <a:close/>
              </a:path>
              <a:path fill="darken" w="24497" h="21600">
                <a:moveTo>
                  <a:pt x="24497" y="0"/>
                </a:moveTo>
                <a:lnTo>
                  <a:pt x="24497" y="21600"/>
                </a:lnTo>
                <a:lnTo>
                  <a:pt x="23097" y="20200"/>
                </a:lnTo>
                <a:lnTo>
                  <a:pt x="23097" y="1400"/>
                </a:lnTo>
                <a:close/>
              </a:path>
              <a:path fill="darkenLess" w="24497" h="21600">
                <a:moveTo>
                  <a:pt x="24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7" y="20200"/>
                </a:lnTo>
                <a:close/>
              </a:path>
              <a:path fill="lighten" w="24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97" h="21600">
                <a:moveTo>
                  <a:pt x="5242" y="3794"/>
                </a:moveTo>
                <a:lnTo>
                  <a:pt x="19255" y="10800"/>
                </a:lnTo>
                <a:lnTo>
                  <a:pt x="5242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1571040" y="954000"/>
            <a:ext cx="61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바탕"/>
                <a:ea typeface="바탕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04920" y="2976480"/>
          <a:ext cx="1419120" cy="838440"/>
        </p:xfrm>
        <a:graphic>
          <a:graphicData uri="http://schemas.openxmlformats.org/drawingml/2006/table">
            <a:tbl>
              <a:tblPr/>
              <a:tblGrid>
                <a:gridCol w="304560"/>
                <a:gridCol w="519120"/>
                <a:gridCol w="595440"/>
              </a:tblGrid>
              <a:tr h="478080"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50920" y="4205160"/>
          <a:ext cx="1484280" cy="747720"/>
        </p:xfrm>
        <a:graphic>
          <a:graphicData uri="http://schemas.openxmlformats.org/drawingml/2006/table">
            <a:tbl>
              <a:tblPr/>
              <a:tblGrid>
                <a:gridCol w="365040"/>
                <a:gridCol w="560520"/>
                <a:gridCol w="558720"/>
              </a:tblGrid>
              <a:tr h="384480"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321680" y="3009960"/>
          <a:ext cx="1523880" cy="838080"/>
        </p:xfrm>
        <a:graphic>
          <a:graphicData uri="http://schemas.openxmlformats.org/drawingml/2006/table">
            <a:tbl>
              <a:tblPr/>
              <a:tblGrid>
                <a:gridCol w="344520"/>
                <a:gridCol w="588960"/>
                <a:gridCol w="590400"/>
              </a:tblGrid>
              <a:tr h="477720"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7310520" y="4118040"/>
          <a:ext cx="1546200" cy="761760"/>
        </p:xfrm>
        <a:graphic>
          <a:graphicData uri="http://schemas.openxmlformats.org/drawingml/2006/table">
            <a:tbl>
              <a:tblPr/>
              <a:tblGrid>
                <a:gridCol w="350640"/>
                <a:gridCol w="596880"/>
                <a:gridCol w="598680"/>
              </a:tblGrid>
              <a:tr h="433440"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9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Прямоугольник 1"/>
          <p:cNvSpPr/>
          <p:nvPr/>
        </p:nvSpPr>
        <p:spPr>
          <a:xfrm>
            <a:off x="1013040" y="160020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바탕"/>
                <a:ea typeface="바탕"/>
              </a:rPr>
              <a:t>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"/>
          <p:cNvSpPr/>
          <p:nvPr/>
        </p:nvSpPr>
        <p:spPr>
          <a:xfrm>
            <a:off x="5644800" y="160020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I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바탕"/>
                <a:ea typeface="바탕"/>
              </a:rPr>
              <a:t>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6"/>
          <p:cNvSpPr/>
          <p:nvPr/>
        </p:nvSpPr>
        <p:spPr>
          <a:xfrm>
            <a:off x="3162240" y="5029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Прове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7"/>
          <p:cNvSpPr/>
          <p:nvPr/>
        </p:nvSpPr>
        <p:spPr>
          <a:xfrm>
            <a:off x="686880" y="34495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0"/>
          <p:cNvSpPr/>
          <p:nvPr/>
        </p:nvSpPr>
        <p:spPr>
          <a:xfrm>
            <a:off x="1262880" y="344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1"/>
          <p:cNvSpPr/>
          <p:nvPr/>
        </p:nvSpPr>
        <p:spPr>
          <a:xfrm>
            <a:off x="7740000" y="34495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2"/>
          <p:cNvSpPr/>
          <p:nvPr/>
        </p:nvSpPr>
        <p:spPr>
          <a:xfrm>
            <a:off x="8400240" y="344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3"/>
          <p:cNvSpPr/>
          <p:nvPr/>
        </p:nvSpPr>
        <p:spPr>
          <a:xfrm>
            <a:off x="562680" y="42433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4"/>
          <p:cNvSpPr/>
          <p:nvPr/>
        </p:nvSpPr>
        <p:spPr>
          <a:xfrm>
            <a:off x="1200600" y="4243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5"/>
          <p:cNvSpPr/>
          <p:nvPr/>
        </p:nvSpPr>
        <p:spPr>
          <a:xfrm>
            <a:off x="7655400" y="41162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1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6"/>
          <p:cNvSpPr/>
          <p:nvPr/>
        </p:nvSpPr>
        <p:spPr>
          <a:xfrm>
            <a:off x="8339400" y="4116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Группа 25"/>
          <p:cNvGrpSpPr/>
          <p:nvPr/>
        </p:nvGrpSpPr>
        <p:grpSpPr>
          <a:xfrm>
            <a:off x="1800360" y="92160"/>
            <a:ext cx="5462280" cy="5769000"/>
            <a:chOff x="1800360" y="92160"/>
            <a:chExt cx="5462280" cy="5769000"/>
          </a:xfrm>
        </p:grpSpPr>
        <p:pic>
          <p:nvPicPr>
            <p:cNvPr id="299" name="Picture 3" descr=""/>
            <p:cNvPicPr/>
            <p:nvPr/>
          </p:nvPicPr>
          <p:blipFill>
            <a:blip r:embed="rId1"/>
            <a:stretch/>
          </p:blipFill>
          <p:spPr>
            <a:xfrm>
              <a:off x="1800360" y="92160"/>
              <a:ext cx="5462280" cy="57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Прямая соединительная линия 7"/>
            <p:cNvSpPr/>
            <p:nvPr/>
          </p:nvSpPr>
          <p:spPr>
            <a:xfrm>
              <a:off x="4038480" y="2360520"/>
              <a:ext cx="0" cy="2519280"/>
            </a:xfrm>
            <a:prstGeom prst="line">
              <a:avLst/>
            </a:prstGeom>
            <a:ln w="381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Прямая соединительная линия 12"/>
            <p:cNvSpPr/>
            <p:nvPr/>
          </p:nvSpPr>
          <p:spPr>
            <a:xfrm>
              <a:off x="4056120" y="4905720"/>
              <a:ext cx="493560" cy="0"/>
            </a:xfrm>
            <a:prstGeom prst="line">
              <a:avLst/>
            </a:prstGeom>
            <a:ln w="381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Прямая соединительная линия 14"/>
            <p:cNvSpPr/>
            <p:nvPr/>
          </p:nvSpPr>
          <p:spPr>
            <a:xfrm flipV="1">
              <a:off x="5391000" y="1454040"/>
              <a:ext cx="0" cy="906480"/>
            </a:xfrm>
            <a:prstGeom prst="line">
              <a:avLst/>
            </a:prstGeom>
            <a:ln w="381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рямая соединительная линия 16"/>
            <p:cNvSpPr/>
            <p:nvPr/>
          </p:nvSpPr>
          <p:spPr>
            <a:xfrm flipH="1">
              <a:off x="4530600" y="1454040"/>
              <a:ext cx="860400" cy="0"/>
            </a:xfrm>
            <a:prstGeom prst="line">
              <a:avLst/>
            </a:prstGeom>
            <a:ln w="381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Прямая соединительная линия 18"/>
            <p:cNvSpPr/>
            <p:nvPr/>
          </p:nvSpPr>
          <p:spPr>
            <a:xfrm>
              <a:off x="4303800" y="2360520"/>
              <a:ext cx="0" cy="1712880"/>
            </a:xfrm>
            <a:prstGeom prst="line">
              <a:avLst/>
            </a:prstGeom>
            <a:ln w="381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Прямая соединительная линия 20"/>
            <p:cNvSpPr/>
            <p:nvPr/>
          </p:nvSpPr>
          <p:spPr>
            <a:xfrm>
              <a:off x="4303800" y="4073760"/>
              <a:ext cx="245880" cy="0"/>
            </a:xfrm>
            <a:prstGeom prst="line">
              <a:avLst/>
            </a:prstGeom>
            <a:ln w="381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Прямая соединительная линия 24"/>
            <p:cNvSpPr/>
            <p:nvPr/>
          </p:nvSpPr>
          <p:spPr>
            <a:xfrm flipH="1">
              <a:off x="4532400" y="2360520"/>
              <a:ext cx="42840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28"/>
          <p:cNvSpPr/>
          <p:nvPr/>
        </p:nvSpPr>
        <p:spPr>
          <a:xfrm>
            <a:off x="687240" y="2200320"/>
            <a:ext cx="3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8"/>
          <p:cNvSpPr/>
          <p:nvPr/>
        </p:nvSpPr>
        <p:spPr>
          <a:xfrm>
            <a:off x="7993080" y="2330280"/>
            <a:ext cx="5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Управляющая кнопка: назад 2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"/>
          <p:cNvSpPr/>
          <p:nvPr/>
        </p:nvSpPr>
        <p:spPr>
          <a:xfrm>
            <a:off x="1989000" y="762120"/>
            <a:ext cx="51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바탕"/>
                <a:ea typeface="바탕"/>
              </a:rPr>
              <a:t>Контроль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2"/>
          <p:cNvSpPr/>
          <p:nvPr/>
        </p:nvSpPr>
        <p:spPr>
          <a:xfrm>
            <a:off x="743040" y="1523880"/>
            <a:ext cx="76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바탕"/>
                <a:ea typeface="바탕"/>
              </a:rPr>
              <a:t>На примере объясните, как построить точку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631440" y="287964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바탕"/>
                <a:ea typeface="바탕"/>
              </a:rPr>
              <a:t>Что называется графиком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4"/>
          <p:cNvSpPr/>
          <p:nvPr/>
        </p:nvSpPr>
        <p:spPr>
          <a:xfrm>
            <a:off x="858960" y="380988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바탕"/>
                <a:ea typeface="바탕"/>
              </a:rPr>
              <a:t>Как определить, принадлежит ли точка А(</a:t>
            </a:r>
            <a:r>
              <a:rPr b="1" lang="en-US" sz="2800" spc="-1" strike="noStrike">
                <a:solidFill>
                  <a:srgbClr val="254061"/>
                </a:solidFill>
                <a:latin typeface="바탕"/>
                <a:ea typeface="바탕"/>
              </a:rPr>
              <a:t>a</a:t>
            </a:r>
            <a:r>
              <a:rPr b="1" lang="ru-RU" sz="2800" spc="-1" strike="noStrike">
                <a:solidFill>
                  <a:srgbClr val="254061"/>
                </a:solidFill>
                <a:latin typeface="바탕"/>
                <a:ea typeface="바탕"/>
              </a:rPr>
              <a:t>, </a:t>
            </a:r>
            <a:r>
              <a:rPr b="1" lang="en-US" sz="2800" spc="-1" strike="noStrike">
                <a:solidFill>
                  <a:srgbClr val="254061"/>
                </a:solidFill>
                <a:latin typeface="바탕"/>
                <a:ea typeface="바탕"/>
              </a:rPr>
              <a:t>b</a:t>
            </a:r>
            <a:r>
              <a:rPr b="1" lang="ru-RU" sz="2800" spc="-1" strike="noStrike">
                <a:solidFill>
                  <a:srgbClr val="254061"/>
                </a:solidFill>
                <a:latin typeface="바탕"/>
                <a:ea typeface="바탕"/>
              </a:rPr>
              <a:t>) графику функции или н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347760" y="76212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바탕"/>
                <a:ea typeface="바탕"/>
              </a:rPr>
              <a:t>Домашнее зад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2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Управляющая кнопка: домой 1">
            <a:hlinkClick r:id="" action="ppaction://hlinkshowjump?jump=firstslide"/>
          </p:cNvPr>
          <p:cNvSpPr/>
          <p:nvPr/>
        </p:nvSpPr>
        <p:spPr>
          <a:xfrm>
            <a:off x="80010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"/>
          <p:cNvSpPr/>
          <p:nvPr/>
        </p:nvSpPr>
        <p:spPr>
          <a:xfrm>
            <a:off x="642960" y="3657600"/>
            <a:ext cx="8315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и-проект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ть свой пример функциональной зависимости одной переменной от другой, исследовать и построить график. Разработки представить в классе на обсу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888840" y="450720"/>
            <a:ext cx="822960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Что называют функци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Как называется независимая переменн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Как называется зависимая переменн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Перечислите способы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функ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119240" y="2666880"/>
          <a:ext cx="6858000" cy="2362320"/>
        </p:xfrm>
        <a:graphic>
          <a:graphicData uri="http://schemas.openxmlformats.org/drawingml/2006/table">
            <a:tbl>
              <a:tblPr/>
              <a:tblGrid>
                <a:gridCol w="965160"/>
                <a:gridCol w="1317600"/>
                <a:gridCol w="932040"/>
                <a:gridCol w="1071360"/>
                <a:gridCol w="1393920"/>
                <a:gridCol w="1177920"/>
              </a:tblGrid>
              <a:tr h="131148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3"/>
          <p:cNvSpPr/>
          <p:nvPr/>
        </p:nvSpPr>
        <p:spPr>
          <a:xfrm>
            <a:off x="3585240" y="272088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4724280" y="2720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5940000" y="40356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7190280" y="40384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Группа 5"/>
          <p:cNvGrpSpPr/>
          <p:nvPr/>
        </p:nvGrpSpPr>
        <p:grpSpPr>
          <a:xfrm>
            <a:off x="758880" y="1066680"/>
            <a:ext cx="7924680" cy="1828080"/>
            <a:chOff x="758880" y="1066680"/>
            <a:chExt cx="7924680" cy="1828080"/>
          </a:xfrm>
        </p:grpSpPr>
        <p:sp>
          <p:nvSpPr>
            <p:cNvPr id="60" name="TextBox 2"/>
            <p:cNvSpPr/>
            <p:nvPr/>
          </p:nvSpPr>
          <p:spPr>
            <a:xfrm>
              <a:off x="758880" y="1338480"/>
              <a:ext cx="7924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Функция задана формулой                       Заполните пустые клетки таблиц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7" descr=""/>
            <p:cNvPicPr/>
            <p:nvPr/>
          </p:nvPicPr>
          <p:blipFill>
            <a:blip r:embed="rId1"/>
            <a:stretch/>
          </p:blipFill>
          <p:spPr>
            <a:xfrm>
              <a:off x="6347880" y="1066680"/>
              <a:ext cx="1271880" cy="108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3603600" y="384120"/>
            <a:ext cx="1560600" cy="88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3"/>
          <a:stretch/>
        </p:blipFill>
        <p:spPr>
          <a:xfrm>
            <a:off x="2343240" y="4035600"/>
            <a:ext cx="866520" cy="912600"/>
          </a:xfrm>
          <a:prstGeom prst="rect">
            <a:avLst/>
          </a:prstGeom>
          <a:ln w="0">
            <a:noFill/>
          </a:ln>
        </p:spPr>
      </p:pic>
      <p:sp>
        <p:nvSpPr>
          <p:cNvPr id="64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88000" y="5157720"/>
            <a:ext cx="76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바탕"/>
                <a:ea typeface="바탕"/>
              </a:rPr>
              <a:t>Какова область определения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1280160" y="5711760"/>
            <a:ext cx="69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바탕"/>
                <a:ea typeface="바탕"/>
              </a:rPr>
              <a:t>Какова область значений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865760" y="-17640"/>
            <a:ext cx="427824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>
            <a:hlinkClick r:id="rId2" action="ppaction://hlinksldjump"/>
          </p:cNvPr>
          <p:cNvSpPr/>
          <p:nvPr/>
        </p:nvSpPr>
        <p:spPr>
          <a:xfrm>
            <a:off x="1093680" y="3206880"/>
            <a:ext cx="7554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바탕"/>
                <a:ea typeface="바탕"/>
                <a:hlinkClick r:id="rId3" action="ppaction://hlinksldjump"/>
              </a:rPr>
              <a:t>Где мы встречаемся с графикам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252080" y="4267080"/>
            <a:ext cx="6639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바탕"/>
                <a:ea typeface="바탕"/>
                <a:hlinkClick r:id="rId4" action="ppaction://hlinksldjump"/>
              </a:rPr>
              <a:t>Как построить график функци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바탕"/>
                <a:ea typeface="바탕"/>
                <a:hlinkClick r:id="rId5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C:\Documents and Settings\Гульсум\Рабочий стол\Quotes.png"/>
          <p:cNvPicPr/>
          <p:nvPr/>
        </p:nvPicPr>
        <p:blipFill>
          <a:blip r:embed="rId1"/>
          <a:stretch/>
        </p:blipFill>
        <p:spPr>
          <a:xfrm>
            <a:off x="974880" y="1600200"/>
            <a:ext cx="4190760" cy="27432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C:\Documents and Settings\Гульсум\Рабочий стол\seismogramtn.jpg"/>
          <p:cNvPicPr/>
          <p:nvPr/>
        </p:nvPicPr>
        <p:blipFill>
          <a:blip r:embed="rId2"/>
          <a:stretch/>
        </p:blipFill>
        <p:spPr>
          <a:xfrm>
            <a:off x="5308560" y="158760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685800" y="609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Врачи выявляют болезни сердца с помощью кардиографа, их называют кардиограм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762120" y="44751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Используя показания сейсмографов ( приборов, непрерывно фиксирующих колебания почвы и строящих специальные графики – сейсмограммы),  геологи могут предсказать приближение землетрясение или цу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066680" y="7621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Широко применяются графики в экономике, в частности, кривая спроса и предложения, линия производственных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C:\Documents and Settings\Гульсум\Рабочий стол\a863645c2ceb.gif"/>
          <p:cNvPicPr/>
          <p:nvPr/>
        </p:nvPicPr>
        <p:blipFill>
          <a:blip r:embed="rId1"/>
          <a:stretch/>
        </p:blipFill>
        <p:spPr>
          <a:xfrm>
            <a:off x="2133720" y="2260440"/>
            <a:ext cx="4876560" cy="38102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 flipH="1">
            <a:off x="539280" y="4869000"/>
            <a:ext cx="8277480" cy="0"/>
          </a:xfrm>
          <a:prstGeom prst="line">
            <a:avLst/>
          </a:prstGeom>
          <a:ln w="28440">
            <a:solidFill>
              <a:srgbClr val="1f49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95120" y="3397320"/>
            <a:ext cx="316080" cy="40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0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висим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мпературы воздух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времени су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5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250920" y="4869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"/>
          <p:cNvGrpSpPr/>
          <p:nvPr/>
        </p:nvGrpSpPr>
        <p:grpSpPr>
          <a:xfrm>
            <a:off x="250920" y="1268280"/>
            <a:ext cx="2160360" cy="4321440"/>
            <a:chOff x="250920" y="1268280"/>
            <a:chExt cx="2160360" cy="4321440"/>
          </a:xfrm>
        </p:grpSpPr>
        <p:sp>
          <p:nvSpPr>
            <p:cNvPr id="87" name="Line 8"/>
            <p:cNvSpPr/>
            <p:nvPr/>
          </p:nvSpPr>
          <p:spPr>
            <a:xfrm>
              <a:off x="25092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241128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169236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>
              <a:off x="97164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2"/>
          <p:cNvGrpSpPr/>
          <p:nvPr/>
        </p:nvGrpSpPr>
        <p:grpSpPr>
          <a:xfrm>
            <a:off x="6732720" y="1268280"/>
            <a:ext cx="2160360" cy="4321440"/>
            <a:chOff x="6732720" y="1268280"/>
            <a:chExt cx="2160360" cy="4321440"/>
          </a:xfrm>
        </p:grpSpPr>
        <p:sp>
          <p:nvSpPr>
            <p:cNvPr id="92" name="Line 13"/>
            <p:cNvSpPr/>
            <p:nvPr/>
          </p:nvSpPr>
          <p:spPr>
            <a:xfrm>
              <a:off x="673272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>
              <a:off x="889308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5"/>
            <p:cNvSpPr/>
            <p:nvPr/>
          </p:nvSpPr>
          <p:spPr>
            <a:xfrm>
              <a:off x="817416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>
              <a:off x="745344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7"/>
          <p:cNvGrpSpPr/>
          <p:nvPr/>
        </p:nvGrpSpPr>
        <p:grpSpPr>
          <a:xfrm>
            <a:off x="3851280" y="1268280"/>
            <a:ext cx="2160360" cy="4321440"/>
            <a:chOff x="3851280" y="1268280"/>
            <a:chExt cx="2160360" cy="4321440"/>
          </a:xfrm>
        </p:grpSpPr>
        <p:sp>
          <p:nvSpPr>
            <p:cNvPr id="97" name="Line 18"/>
            <p:cNvSpPr/>
            <p:nvPr/>
          </p:nvSpPr>
          <p:spPr>
            <a:xfrm>
              <a:off x="385128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>
              <a:off x="601164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0"/>
            <p:cNvSpPr/>
            <p:nvPr/>
          </p:nvSpPr>
          <p:spPr>
            <a:xfrm>
              <a:off x="529272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>
              <a:off x="457200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Line 22"/>
          <p:cNvSpPr/>
          <p:nvPr/>
        </p:nvSpPr>
        <p:spPr>
          <a:xfrm flipV="1">
            <a:off x="313200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>
            <a:off x="250920" y="4221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5"/>
          <p:cNvSpPr/>
          <p:nvPr/>
        </p:nvSpPr>
        <p:spPr>
          <a:xfrm>
            <a:off x="250920" y="5589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7"/>
          <p:cNvSpPr/>
          <p:nvPr/>
        </p:nvSpPr>
        <p:spPr>
          <a:xfrm>
            <a:off x="250920" y="1989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>
            <a:off x="250920" y="270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9"/>
          <p:cNvGrpSpPr/>
          <p:nvPr/>
        </p:nvGrpSpPr>
        <p:grpSpPr>
          <a:xfrm>
            <a:off x="250920" y="1268280"/>
            <a:ext cx="2160360" cy="4321440"/>
            <a:chOff x="250920" y="1268280"/>
            <a:chExt cx="2160360" cy="4321440"/>
          </a:xfrm>
        </p:grpSpPr>
        <p:sp>
          <p:nvSpPr>
            <p:cNvPr id="109" name="Line 30"/>
            <p:cNvSpPr/>
            <p:nvPr/>
          </p:nvSpPr>
          <p:spPr>
            <a:xfrm>
              <a:off x="250920" y="1268280"/>
              <a:ext cx="0" cy="432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>
              <a:off x="241128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>
              <a:off x="169236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>
              <a:off x="97164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34"/>
          <p:cNvGrpSpPr/>
          <p:nvPr/>
        </p:nvGrpSpPr>
        <p:grpSpPr>
          <a:xfrm>
            <a:off x="6732720" y="1268280"/>
            <a:ext cx="2160360" cy="4321440"/>
            <a:chOff x="6732720" y="1268280"/>
            <a:chExt cx="2160360" cy="4321440"/>
          </a:xfrm>
        </p:grpSpPr>
        <p:sp>
          <p:nvSpPr>
            <p:cNvPr id="114" name="Line 35"/>
            <p:cNvSpPr/>
            <p:nvPr/>
          </p:nvSpPr>
          <p:spPr>
            <a:xfrm>
              <a:off x="673272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>
              <a:off x="889308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>
              <a:off x="817416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8"/>
            <p:cNvSpPr/>
            <p:nvPr/>
          </p:nvSpPr>
          <p:spPr>
            <a:xfrm>
              <a:off x="7453440" y="126828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9"/>
          <p:cNvGrpSpPr/>
          <p:nvPr/>
        </p:nvGrpSpPr>
        <p:grpSpPr>
          <a:xfrm>
            <a:off x="3851280" y="1125360"/>
            <a:ext cx="2160360" cy="4321440"/>
            <a:chOff x="3851280" y="1125360"/>
            <a:chExt cx="2160360" cy="4321440"/>
          </a:xfrm>
        </p:grpSpPr>
        <p:sp>
          <p:nvSpPr>
            <p:cNvPr id="119" name="Line 40"/>
            <p:cNvSpPr/>
            <p:nvPr/>
          </p:nvSpPr>
          <p:spPr>
            <a:xfrm>
              <a:off x="3851280" y="112536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1"/>
            <p:cNvSpPr/>
            <p:nvPr/>
          </p:nvSpPr>
          <p:spPr>
            <a:xfrm>
              <a:off x="6011640" y="112536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>
              <a:off x="5292720" y="112536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4572000" y="1125360"/>
              <a:ext cx="0" cy="43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44"/>
          <p:cNvSpPr/>
          <p:nvPr/>
        </p:nvSpPr>
        <p:spPr>
          <a:xfrm flipV="1">
            <a:off x="313200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5"/>
          <p:cNvSpPr/>
          <p:nvPr/>
        </p:nvSpPr>
        <p:spPr>
          <a:xfrm>
            <a:off x="203040" y="347184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826920" y="3500280"/>
            <a:ext cx="360360" cy="37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1476360" y="3500280"/>
            <a:ext cx="360360" cy="37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8"/>
          <p:cNvSpPr/>
          <p:nvPr/>
        </p:nvSpPr>
        <p:spPr>
          <a:xfrm>
            <a:off x="2195640" y="3500280"/>
            <a:ext cx="360360" cy="37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9"/>
          <p:cNvSpPr/>
          <p:nvPr/>
        </p:nvSpPr>
        <p:spPr>
          <a:xfrm>
            <a:off x="2930400" y="349416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3627360" y="349416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1"/>
          <p:cNvSpPr/>
          <p:nvPr/>
        </p:nvSpPr>
        <p:spPr>
          <a:xfrm>
            <a:off x="4397400" y="349416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2"/>
          <p:cNvSpPr/>
          <p:nvPr/>
        </p:nvSpPr>
        <p:spPr>
          <a:xfrm>
            <a:off x="5114880" y="348624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3"/>
          <p:cNvSpPr/>
          <p:nvPr/>
        </p:nvSpPr>
        <p:spPr>
          <a:xfrm>
            <a:off x="7956720" y="3500280"/>
            <a:ext cx="360360" cy="37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8593200" y="351000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5796000" y="3500280"/>
            <a:ext cx="360360" cy="37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6521400" y="349884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7"/>
          <p:cNvSpPr/>
          <p:nvPr/>
        </p:nvSpPr>
        <p:spPr>
          <a:xfrm>
            <a:off x="7262640" y="3498840"/>
            <a:ext cx="360360" cy="37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8"/>
          <p:cNvSpPr/>
          <p:nvPr/>
        </p:nvSpPr>
        <p:spPr>
          <a:xfrm>
            <a:off x="8466120" y="3019320"/>
            <a:ext cx="4618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208080" y="2525760"/>
            <a:ext cx="360360" cy="372960"/>
          </a:xfrm>
          <a:prstGeom prst="rect">
            <a:avLst/>
          </a:prstGeom>
          <a:solidFill>
            <a:srgbClr val="cc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0"/>
          <p:cNvSpPr/>
          <p:nvPr/>
        </p:nvSpPr>
        <p:spPr>
          <a:xfrm>
            <a:off x="208080" y="1771560"/>
            <a:ext cx="360360" cy="373320"/>
          </a:xfrm>
          <a:prstGeom prst="rect">
            <a:avLst/>
          </a:prstGeom>
          <a:solidFill>
            <a:srgbClr val="cc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1"/>
          <p:cNvSpPr/>
          <p:nvPr/>
        </p:nvSpPr>
        <p:spPr>
          <a:xfrm>
            <a:off x="193680" y="3994200"/>
            <a:ext cx="360360" cy="372960"/>
          </a:xfrm>
          <a:prstGeom prst="rect">
            <a:avLst/>
          </a:prstGeom>
          <a:solidFill>
            <a:srgbClr val="cc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2"/>
          <p:cNvSpPr/>
          <p:nvPr/>
        </p:nvSpPr>
        <p:spPr>
          <a:xfrm>
            <a:off x="214200" y="5408640"/>
            <a:ext cx="360360" cy="372960"/>
          </a:xfrm>
          <a:prstGeom prst="rect">
            <a:avLst/>
          </a:prstGeom>
          <a:solidFill>
            <a:srgbClr val="cc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3"/>
          <p:cNvSpPr/>
          <p:nvPr/>
        </p:nvSpPr>
        <p:spPr>
          <a:xfrm>
            <a:off x="204840" y="4711680"/>
            <a:ext cx="360360" cy="372960"/>
          </a:xfrm>
          <a:prstGeom prst="rect">
            <a:avLst/>
          </a:prstGeom>
          <a:solidFill>
            <a:srgbClr val="cc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4"/>
          <p:cNvSpPr/>
          <p:nvPr/>
        </p:nvSpPr>
        <p:spPr>
          <a:xfrm>
            <a:off x="324000" y="1268280"/>
            <a:ext cx="636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5"/>
          <p:cNvSpPr/>
          <p:nvPr/>
        </p:nvSpPr>
        <p:spPr>
          <a:xfrm>
            <a:off x="246240" y="1609560"/>
            <a:ext cx="8621640" cy="3972240"/>
          </a:xfrm>
          <a:custGeom>
            <a:avLst/>
            <a:gdLst/>
            <a:ahLst/>
            <a:rect l="l" t="t" r="r" b="b"/>
            <a:pathLst>
              <a:path w="5431" h="2502">
                <a:moveTo>
                  <a:pt x="0" y="1811"/>
                </a:moveTo>
                <a:cubicBezTo>
                  <a:pt x="167" y="1886"/>
                  <a:pt x="335" y="1962"/>
                  <a:pt x="448" y="2040"/>
                </a:cubicBezTo>
                <a:cubicBezTo>
                  <a:pt x="561" y="2118"/>
                  <a:pt x="601" y="2201"/>
                  <a:pt x="677" y="2277"/>
                </a:cubicBezTo>
                <a:cubicBezTo>
                  <a:pt x="753" y="2353"/>
                  <a:pt x="792" y="2492"/>
                  <a:pt x="906" y="2497"/>
                </a:cubicBezTo>
                <a:cubicBezTo>
                  <a:pt x="1020" y="2502"/>
                  <a:pt x="1212" y="2418"/>
                  <a:pt x="1363" y="2305"/>
                </a:cubicBezTo>
                <a:cubicBezTo>
                  <a:pt x="1514" y="2192"/>
                  <a:pt x="1697" y="2014"/>
                  <a:pt x="1811" y="1820"/>
                </a:cubicBezTo>
                <a:cubicBezTo>
                  <a:pt x="1925" y="1626"/>
                  <a:pt x="1972" y="1298"/>
                  <a:pt x="2048" y="1144"/>
                </a:cubicBezTo>
                <a:cubicBezTo>
                  <a:pt x="2124" y="990"/>
                  <a:pt x="2155" y="973"/>
                  <a:pt x="2268" y="897"/>
                </a:cubicBezTo>
                <a:cubicBezTo>
                  <a:pt x="2381" y="821"/>
                  <a:pt x="2574" y="798"/>
                  <a:pt x="2725" y="687"/>
                </a:cubicBezTo>
                <a:cubicBezTo>
                  <a:pt x="2876" y="576"/>
                  <a:pt x="3024" y="343"/>
                  <a:pt x="3173" y="229"/>
                </a:cubicBezTo>
                <a:cubicBezTo>
                  <a:pt x="3322" y="115"/>
                  <a:pt x="3470" y="2"/>
                  <a:pt x="3621" y="1"/>
                </a:cubicBezTo>
                <a:cubicBezTo>
                  <a:pt x="3772" y="0"/>
                  <a:pt x="3924" y="107"/>
                  <a:pt x="4078" y="220"/>
                </a:cubicBezTo>
                <a:cubicBezTo>
                  <a:pt x="4232" y="333"/>
                  <a:pt x="4392" y="523"/>
                  <a:pt x="4544" y="677"/>
                </a:cubicBezTo>
                <a:cubicBezTo>
                  <a:pt x="4696" y="831"/>
                  <a:pt x="4844" y="917"/>
                  <a:pt x="4992" y="1144"/>
                </a:cubicBezTo>
                <a:cubicBezTo>
                  <a:pt x="5140" y="1371"/>
                  <a:pt x="5285" y="1705"/>
                  <a:pt x="5431" y="2040"/>
                </a:cubicBezTo>
              </a:path>
            </a:pathLst>
          </a:custGeom>
          <a:noFill/>
          <a:ln w="63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6"/>
          <p:cNvSpPr/>
          <p:nvPr/>
        </p:nvSpPr>
        <p:spPr>
          <a:xfrm>
            <a:off x="1684440" y="3801960"/>
            <a:ext cx="0" cy="17719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7"/>
          <p:cNvSpPr/>
          <p:nvPr/>
        </p:nvSpPr>
        <p:spPr>
          <a:xfrm>
            <a:off x="1625760" y="5518080"/>
            <a:ext cx="93600" cy="106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8"/>
          <p:cNvSpPr/>
          <p:nvPr/>
        </p:nvSpPr>
        <p:spPr>
          <a:xfrm flipH="1">
            <a:off x="571680" y="5587920"/>
            <a:ext cx="1047600" cy="0"/>
          </a:xfrm>
          <a:prstGeom prst="line">
            <a:avLst/>
          </a:prstGeom>
          <a:ln w="28440">
            <a:solidFill>
              <a:srgbClr val="1f49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9"/>
          <p:cNvSpPr/>
          <p:nvPr/>
        </p:nvSpPr>
        <p:spPr>
          <a:xfrm>
            <a:off x="4578480" y="265896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0"/>
          <p:cNvSpPr/>
          <p:nvPr/>
        </p:nvSpPr>
        <p:spPr>
          <a:xfrm>
            <a:off x="4533840" y="2664000"/>
            <a:ext cx="93600" cy="106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1"/>
          <p:cNvSpPr/>
          <p:nvPr/>
        </p:nvSpPr>
        <p:spPr>
          <a:xfrm flipH="1">
            <a:off x="561600" y="2708280"/>
            <a:ext cx="3987720" cy="11160"/>
          </a:xfrm>
          <a:prstGeom prst="line">
            <a:avLst/>
          </a:prstGeom>
          <a:ln w="28440">
            <a:solidFill>
              <a:srgbClr val="1f49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 flipH="1">
            <a:off x="8872560" y="3732120"/>
            <a:ext cx="15840" cy="10749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6"/>
          <p:cNvSpPr/>
          <p:nvPr/>
        </p:nvSpPr>
        <p:spPr>
          <a:xfrm>
            <a:off x="8827920" y="4781520"/>
            <a:ext cx="93960" cy="106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1"/>
          <p:cNvSpPr/>
          <p:nvPr/>
        </p:nvSpPr>
        <p:spPr>
          <a:xfrm>
            <a:off x="1328760" y="5899320"/>
            <a:ext cx="6410160" cy="93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еменная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ff3300"/>
                </a:solidFill>
                <a:latin typeface="Georgia"/>
                <a:ea typeface="Arial"/>
              </a:rPr>
              <a:t>t 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езависимая пе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еменная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Georgia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зависимая пе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3692520" y="4060800"/>
            <a:ext cx="218736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6289560" y="4060800"/>
            <a:ext cx="166716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-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9"/>
          <p:cNvSpPr/>
          <p:nvPr/>
        </p:nvSpPr>
        <p:spPr>
          <a:xfrm>
            <a:off x="3699360" y="4781520"/>
            <a:ext cx="234000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6291360" y="4781520"/>
            <a:ext cx="166536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3669480" y="5408640"/>
            <a:ext cx="234000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6291360" y="5416560"/>
            <a:ext cx="166536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-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566640" y="1817640"/>
            <a:ext cx="799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 flipV="1">
            <a:off x="971640" y="333000"/>
            <a:ext cx="0" cy="331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8580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477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917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63672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078160" y="126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797440" y="126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237440" y="126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520" y="0"/>
            <a:ext cx="12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103600" y="17733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469440" y="4046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96360" y="314172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6"/>
          <p:cNvSpPr/>
          <p:nvPr/>
        </p:nvSpPr>
        <p:spPr>
          <a:xfrm>
            <a:off x="971640" y="620640"/>
            <a:ext cx="711000" cy="1800"/>
          </a:xfrm>
          <a:custGeom>
            <a:avLst/>
            <a:gdLst/>
            <a:ahLst/>
            <a:rect l="l" t="t" r="r" b="b"/>
            <a:pathLst>
              <a:path w="448" h="1">
                <a:moveTo>
                  <a:pt x="0" y="0"/>
                </a:moveTo>
                <a:lnTo>
                  <a:pt x="44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1692360" y="620640"/>
            <a:ext cx="143964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8"/>
          <p:cNvSpPr/>
          <p:nvPr/>
        </p:nvSpPr>
        <p:spPr>
          <a:xfrm>
            <a:off x="965160" y="609480"/>
            <a:ext cx="711360" cy="1155960"/>
          </a:xfrm>
          <a:custGeom>
            <a:avLst/>
            <a:gdLst/>
            <a:ahLst/>
            <a:rect l="l" t="t" r="r" b="b"/>
            <a:pathLst>
              <a:path w="448" h="728">
                <a:moveTo>
                  <a:pt x="0" y="728"/>
                </a:moveTo>
                <a:lnTo>
                  <a:pt x="448" y="0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9"/>
          <p:cNvSpPr/>
          <p:nvPr/>
        </p:nvSpPr>
        <p:spPr>
          <a:xfrm>
            <a:off x="3149640" y="622440"/>
            <a:ext cx="685800" cy="1155600"/>
          </a:xfrm>
          <a:custGeom>
            <a:avLst/>
            <a:gdLst/>
            <a:ahLst/>
            <a:rect l="l" t="t" r="r" b="b"/>
            <a:pathLst>
              <a:path w="432" h="728">
                <a:moveTo>
                  <a:pt x="0" y="0"/>
                </a:moveTo>
                <a:lnTo>
                  <a:pt x="432" y="728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0"/>
          <p:cNvSpPr/>
          <p:nvPr/>
        </p:nvSpPr>
        <p:spPr>
          <a:xfrm>
            <a:off x="3851280" y="1773360"/>
            <a:ext cx="144000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1"/>
          <p:cNvSpPr/>
          <p:nvPr/>
        </p:nvSpPr>
        <p:spPr>
          <a:xfrm>
            <a:off x="6006960" y="3416400"/>
            <a:ext cx="1473480" cy="1440"/>
          </a:xfrm>
          <a:custGeom>
            <a:avLst/>
            <a:gdLst/>
            <a:ahLst/>
            <a:rect l="l" t="t" r="r" b="b"/>
            <a:pathLst>
              <a:path w="928" h="1">
                <a:moveTo>
                  <a:pt x="0" y="0"/>
                </a:moveTo>
                <a:lnTo>
                  <a:pt x="928" y="0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2"/>
          <p:cNvSpPr/>
          <p:nvPr/>
        </p:nvSpPr>
        <p:spPr>
          <a:xfrm>
            <a:off x="5292720" y="1773360"/>
            <a:ext cx="714240" cy="1668240"/>
          </a:xfrm>
          <a:custGeom>
            <a:avLst/>
            <a:gdLst/>
            <a:ahLst/>
            <a:rect l="l" t="t" r="r" b="b"/>
            <a:pathLst>
              <a:path w="450" h="1051">
                <a:moveTo>
                  <a:pt x="0" y="0"/>
                </a:moveTo>
                <a:lnTo>
                  <a:pt x="450" y="1051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1692360" y="620640"/>
            <a:ext cx="0" cy="11527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3132000" y="620640"/>
            <a:ext cx="0" cy="11527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5"/>
          <p:cNvSpPr/>
          <p:nvPr/>
        </p:nvSpPr>
        <p:spPr>
          <a:xfrm>
            <a:off x="6006960" y="1790640"/>
            <a:ext cx="1800" cy="1600200"/>
          </a:xfrm>
          <a:custGeom>
            <a:avLst/>
            <a:gdLst/>
            <a:ahLst/>
            <a:rect l="l" t="t" r="r" b="b"/>
            <a:pathLst>
              <a:path w="1" h="1008">
                <a:moveTo>
                  <a:pt x="0" y="0"/>
                </a:moveTo>
                <a:lnTo>
                  <a:pt x="0" y="1008"/>
                </a:lnTo>
              </a:path>
            </a:pathLst>
          </a:custGeom>
          <a:noFill/>
          <a:ln w="223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6"/>
          <p:cNvSpPr/>
          <p:nvPr/>
        </p:nvSpPr>
        <p:spPr>
          <a:xfrm>
            <a:off x="7453440" y="1778040"/>
            <a:ext cx="1440" cy="1650960"/>
          </a:xfrm>
          <a:custGeom>
            <a:avLst/>
            <a:gdLst/>
            <a:ahLst/>
            <a:rect l="l" t="t" r="r" b="b"/>
            <a:pathLst>
              <a:path w="1" h="1040">
                <a:moveTo>
                  <a:pt x="1" y="0"/>
                </a:moveTo>
                <a:lnTo>
                  <a:pt x="0" y="1040"/>
                </a:lnTo>
              </a:path>
            </a:pathLst>
          </a:custGeom>
          <a:noFill/>
          <a:ln w="223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1279440" y="61920"/>
            <a:ext cx="7956720" cy="45972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ик скорости машин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в зависимости о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ремен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3527280" y="476280"/>
            <a:ext cx="5616720" cy="82548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графика можно найти скор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ашин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в любой момент времен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1063440" y="3660840"/>
            <a:ext cx="249228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,5,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063440" y="4268880"/>
            <a:ext cx="249228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,5,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1015920" y="4843440"/>
            <a:ext cx="252108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,5,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5184720" y="4114800"/>
            <a:ext cx="251928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5,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5197320" y="4748040"/>
            <a:ext cx="249228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,5,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3635280" y="3693960"/>
            <a:ext cx="1152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6"/>
          <p:cNvSpPr/>
          <p:nvPr/>
        </p:nvSpPr>
        <p:spPr>
          <a:xfrm>
            <a:off x="3635280" y="4290840"/>
            <a:ext cx="1152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3635280" y="4863960"/>
            <a:ext cx="1152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8"/>
          <p:cNvSpPr/>
          <p:nvPr/>
        </p:nvSpPr>
        <p:spPr>
          <a:xfrm>
            <a:off x="7819920" y="4114800"/>
            <a:ext cx="1152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7823160" y="4759200"/>
            <a:ext cx="11509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41"/>
          <p:cNvSpPr/>
          <p:nvPr/>
        </p:nvSpPr>
        <p:spPr>
          <a:xfrm>
            <a:off x="1346040" y="1181160"/>
            <a:ext cx="1800" cy="596880"/>
          </a:xfrm>
          <a:custGeom>
            <a:avLst/>
            <a:gdLst/>
            <a:ahLst/>
            <a:rect l="l" t="t" r="r" b="b"/>
            <a:pathLst>
              <a:path w="1" h="376">
                <a:moveTo>
                  <a:pt x="0" y="0"/>
                </a:moveTo>
                <a:lnTo>
                  <a:pt x="0" y="376"/>
                </a:lnTo>
              </a:path>
            </a:pathLst>
          </a:custGeom>
          <a:noFill/>
          <a:ln w="316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42"/>
          <p:cNvSpPr/>
          <p:nvPr/>
        </p:nvSpPr>
        <p:spPr>
          <a:xfrm>
            <a:off x="952560" y="1193760"/>
            <a:ext cx="368280" cy="1800"/>
          </a:xfrm>
          <a:custGeom>
            <a:avLst/>
            <a:gdLst/>
            <a:ahLst/>
            <a:rect l="l" t="t" r="r" b="b"/>
            <a:pathLst>
              <a:path w="232" h="1">
                <a:moveTo>
                  <a:pt x="232" y="0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3"/>
          <p:cNvSpPr/>
          <p:nvPr/>
        </p:nvSpPr>
        <p:spPr>
          <a:xfrm>
            <a:off x="2387520" y="622440"/>
            <a:ext cx="1800" cy="1143000"/>
          </a:xfrm>
          <a:custGeom>
            <a:avLst/>
            <a:gdLst/>
            <a:ahLst/>
            <a:rect l="l" t="t" r="r" b="b"/>
            <a:pathLst>
              <a:path w="1" h="720">
                <a:moveTo>
                  <a:pt x="0" y="0"/>
                </a:moveTo>
                <a:lnTo>
                  <a:pt x="0" y="720"/>
                </a:lnTo>
              </a:path>
            </a:pathLst>
          </a:custGeom>
          <a:noFill/>
          <a:ln w="316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4"/>
          <p:cNvSpPr/>
          <p:nvPr/>
        </p:nvSpPr>
        <p:spPr>
          <a:xfrm>
            <a:off x="977760" y="609480"/>
            <a:ext cx="1397160" cy="1800"/>
          </a:xfrm>
          <a:custGeom>
            <a:avLst/>
            <a:gdLst/>
            <a:ahLst/>
            <a:rect l="l" t="t" r="r" b="b"/>
            <a:pathLst>
              <a:path w="880" h="1">
                <a:moveTo>
                  <a:pt x="880" y="0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5"/>
          <p:cNvSpPr/>
          <p:nvPr/>
        </p:nvSpPr>
        <p:spPr>
          <a:xfrm>
            <a:off x="3492360" y="1197000"/>
            <a:ext cx="1800" cy="596880"/>
          </a:xfrm>
          <a:custGeom>
            <a:avLst/>
            <a:gdLst/>
            <a:ahLst/>
            <a:rect l="l" t="t" r="r" b="b"/>
            <a:pathLst>
              <a:path w="1" h="376">
                <a:moveTo>
                  <a:pt x="0" y="0"/>
                </a:moveTo>
                <a:lnTo>
                  <a:pt x="0" y="376"/>
                </a:lnTo>
              </a:path>
            </a:pathLst>
          </a:custGeom>
          <a:noFill/>
          <a:ln w="316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6"/>
          <p:cNvSpPr/>
          <p:nvPr/>
        </p:nvSpPr>
        <p:spPr>
          <a:xfrm>
            <a:off x="965160" y="1193760"/>
            <a:ext cx="2527200" cy="4680"/>
          </a:xfrm>
          <a:custGeom>
            <a:avLst/>
            <a:gdLst/>
            <a:ahLst/>
            <a:rect l="l" t="t" r="r" b="b"/>
            <a:pathLst>
              <a:path w="1592" h="3">
                <a:moveTo>
                  <a:pt x="1592" y="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7"/>
          <p:cNvSpPr/>
          <p:nvPr/>
        </p:nvSpPr>
        <p:spPr>
          <a:xfrm>
            <a:off x="4572000" y="1700280"/>
            <a:ext cx="0" cy="14436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48"/>
          <p:cNvSpPr/>
          <p:nvPr/>
        </p:nvSpPr>
        <p:spPr>
          <a:xfrm>
            <a:off x="5676840" y="1765440"/>
            <a:ext cx="1800" cy="914400"/>
          </a:xfrm>
          <a:custGeom>
            <a:avLst/>
            <a:gdLst/>
            <a:ahLst/>
            <a:rect l="l" t="t" r="r" b="b"/>
            <a:pathLst>
              <a:path w="1" h="576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w="316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49"/>
          <p:cNvSpPr/>
          <p:nvPr/>
        </p:nvSpPr>
        <p:spPr>
          <a:xfrm>
            <a:off x="965160" y="2654280"/>
            <a:ext cx="4724280" cy="25560"/>
          </a:xfrm>
          <a:custGeom>
            <a:avLst/>
            <a:gdLst/>
            <a:ahLst/>
            <a:rect l="l" t="t" r="r" b="b"/>
            <a:pathLst>
              <a:path w="2976" h="16">
                <a:moveTo>
                  <a:pt x="2976" y="16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1028880" y="542772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t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 –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выбираем произво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t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 –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независимая переме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1"/>
          <p:cNvSpPr/>
          <p:nvPr/>
        </p:nvSpPr>
        <p:spPr>
          <a:xfrm>
            <a:off x="1266840" y="1773360"/>
            <a:ext cx="119160" cy="96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54"/>
          <p:cNvSpPr/>
          <p:nvPr/>
        </p:nvSpPr>
        <p:spPr>
          <a:xfrm>
            <a:off x="1260360" y="1177920"/>
            <a:ext cx="119160" cy="1047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58"/>
          <p:cNvSpPr/>
          <p:nvPr/>
        </p:nvSpPr>
        <p:spPr>
          <a:xfrm>
            <a:off x="2327400" y="561960"/>
            <a:ext cx="118800" cy="96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59"/>
          <p:cNvSpPr/>
          <p:nvPr/>
        </p:nvSpPr>
        <p:spPr>
          <a:xfrm>
            <a:off x="2352600" y="1768320"/>
            <a:ext cx="119160" cy="96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60"/>
          <p:cNvSpPr/>
          <p:nvPr/>
        </p:nvSpPr>
        <p:spPr>
          <a:xfrm>
            <a:off x="3438360" y="1778040"/>
            <a:ext cx="119160" cy="96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61"/>
          <p:cNvSpPr/>
          <p:nvPr/>
        </p:nvSpPr>
        <p:spPr>
          <a:xfrm>
            <a:off x="3467160" y="1112760"/>
            <a:ext cx="119160" cy="96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62"/>
          <p:cNvSpPr/>
          <p:nvPr/>
        </p:nvSpPr>
        <p:spPr>
          <a:xfrm>
            <a:off x="4503600" y="1716120"/>
            <a:ext cx="119160" cy="98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63"/>
          <p:cNvSpPr/>
          <p:nvPr/>
        </p:nvSpPr>
        <p:spPr>
          <a:xfrm>
            <a:off x="5570640" y="1757520"/>
            <a:ext cx="118800" cy="98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64"/>
          <p:cNvSpPr/>
          <p:nvPr/>
        </p:nvSpPr>
        <p:spPr>
          <a:xfrm>
            <a:off x="5649840" y="2585880"/>
            <a:ext cx="119160" cy="98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52280" y="6093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4521" y="10800"/>
                </a:moveTo>
                <a:lnTo>
                  <a:pt x="18534" y="3794"/>
                </a:lnTo>
                <a:lnTo>
                  <a:pt x="185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8" descr=""/>
          <p:cNvPicPr/>
          <p:nvPr/>
        </p:nvPicPr>
        <p:blipFill>
          <a:blip r:embed="rId1"/>
          <a:stretch/>
        </p:blipFill>
        <p:spPr>
          <a:xfrm>
            <a:off x="349200" y="923760"/>
            <a:ext cx="190836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57" repeatCount="1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72222E-006 1.85185E-006 L 0.04132 -0.13704 C 0.05469 -0.13727 0.16389 -0.18241 0.20903 -0.11343 C 0.24792 -0.0831 0.23507 0.01759 0.27518 0.0456 C 0.31528 0.07338 0.40886 0.01551 0.44948 0.05416 L 0.51875 0.27801 L 0.625 0.27685 E">
                                      <p:cBhvr>
                                        <p:cTn id="104" dur="2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7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21" nodeType="after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28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9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4" nodeType="after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155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64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3010"/>
                            </p:stCondLst>
                            <p:childTnLst>
                              <p:par>
                                <p:cTn id="167" nodeType="after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4260"/>
                            </p:stCondLst>
                            <p:childTnLst>
                              <p:par>
                                <p:cTn id="17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4510"/>
                            </p:stCondLst>
                            <p:childTnLst>
                              <p:par>
                                <p:cTn id="174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760"/>
                            </p:stCondLst>
                            <p:childTnLst>
                              <p:par>
                                <p:cTn id="178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6010"/>
                            </p:stCondLst>
                            <p:childTnLst>
                              <p:par>
                                <p:cTn id="18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6260"/>
                            </p:stCondLst>
                            <p:childTnLst>
                              <p:par>
                                <p:cTn id="184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6510"/>
                            </p:stCondLst>
                            <p:childTnLst>
                              <p:par>
                                <p:cTn id="187" nodeType="afterEffect" fill="hold" presetClass="entr" presetID="1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7760"/>
                            </p:stCondLst>
                            <p:childTnLst>
                              <p:par>
                                <p:cTn id="19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8260"/>
                            </p:stCondLst>
                            <p:childTnLst>
                              <p:par>
                                <p:cTn id="193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8510"/>
                            </p:stCondLst>
                            <p:childTnLst>
                              <p:par>
                                <p:cTn id="196" nodeType="after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4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326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3510"/>
                            </p:stCondLst>
                            <p:childTnLst>
                              <p:par>
                                <p:cTn id="203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4760"/>
                            </p:stCondLst>
                            <p:childTnLst>
                              <p:par>
                                <p:cTn id="207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 repeatCount="1000">
                                  <p:stCondLst>
                                    <p:cond delay="25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130"/>
                            </p:stCondLst>
                            <p:childTnLst>
                              <p:par>
                                <p:cTn id="217" nodeType="afterEffect" fill="hold" presetClass="entr" presetID="27" repeatCount="1000">
                                  <p:stCondLst>
                                    <p:cond delay="25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883440" y="2057400"/>
            <a:ext cx="7562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바탕"/>
                <a:ea typeface="바탕"/>
                <a:hlinkClick r:id="rId1"/>
              </a:rPr>
              <a:t>Физкультминутка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Управляющая кнопка: возврат 3">
            <a:hlinkClick r:id="rId3" action="ppaction://hlinksldjump"/>
          </p:cNvPr>
          <p:cNvSpPr/>
          <p:nvPr/>
        </p:nvSpPr>
        <p:spPr>
          <a:xfrm>
            <a:off x="7881840" y="5791320"/>
            <a:ext cx="762120" cy="7999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99920"/>
              <a:gd name="textAreaBottom" fmla="*/ 750600 h 799920"/>
            </a:gdLst>
            <a:ahLst/>
            <a:rect l="textAreaLeft" t="textAreaTop" r="textAreaRight" b="textAreaBottom"/>
            <a:pathLst>
              <a:path w="21600" h="22671">
                <a:moveTo>
                  <a:pt x="0" y="0"/>
                </a:moveTo>
                <a:lnTo>
                  <a:pt x="21600" y="0"/>
                </a:lnTo>
                <a:lnTo>
                  <a:pt x="21600" y="22671"/>
                </a:lnTo>
                <a:lnTo>
                  <a:pt x="0" y="22671"/>
                </a:lnTo>
                <a:close/>
              </a:path>
              <a:path fill="lightenLess" w="21600" h="226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71">
                <a:moveTo>
                  <a:pt x="21600" y="0"/>
                </a:moveTo>
                <a:lnTo>
                  <a:pt x="21600" y="22671"/>
                </a:lnTo>
                <a:lnTo>
                  <a:pt x="20200" y="21271"/>
                </a:lnTo>
                <a:lnTo>
                  <a:pt x="20200" y="1400"/>
                </a:lnTo>
                <a:close/>
              </a:path>
              <a:path fill="darkenLess" w="21600" h="22671">
                <a:moveTo>
                  <a:pt x="21600" y="22671"/>
                </a:moveTo>
                <a:lnTo>
                  <a:pt x="0" y="22671"/>
                </a:lnTo>
                <a:lnTo>
                  <a:pt x="1400" y="21271"/>
                </a:lnTo>
                <a:lnTo>
                  <a:pt x="20200" y="21271"/>
                </a:lnTo>
                <a:close/>
              </a:path>
              <a:path fill="lighten" w="21600" h="22671">
                <a:moveTo>
                  <a:pt x="0" y="226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71"/>
                </a:lnTo>
                <a:close/>
              </a:path>
              <a:path fill="darken" w="21600" h="22671">
                <a:moveTo>
                  <a:pt x="3794" y="8028"/>
                </a:moveTo>
                <a:lnTo>
                  <a:pt x="7301" y="8028"/>
                </a:lnTo>
                <a:lnTo>
                  <a:pt x="7301" y="13363"/>
                </a:lnTo>
                <a:cubicBezTo>
                  <a:pt x="7301" y="14286"/>
                  <a:pt x="8102" y="15017"/>
                  <a:pt x="9138" y="15017"/>
                </a:cubicBezTo>
                <a:lnTo>
                  <a:pt x="10800" y="15017"/>
                </a:lnTo>
                <a:cubicBezTo>
                  <a:pt x="11836" y="15017"/>
                  <a:pt x="12636" y="14286"/>
                  <a:pt x="12636" y="13363"/>
                </a:cubicBezTo>
                <a:lnTo>
                  <a:pt x="12636" y="8028"/>
                </a:lnTo>
                <a:lnTo>
                  <a:pt x="10800" y="8028"/>
                </a:lnTo>
                <a:lnTo>
                  <a:pt x="14308" y="4520"/>
                </a:lnTo>
                <a:lnTo>
                  <a:pt x="17981" y="8028"/>
                </a:lnTo>
                <a:lnTo>
                  <a:pt x="16144" y="8028"/>
                </a:lnTo>
                <a:lnTo>
                  <a:pt x="16144" y="13363"/>
                </a:lnTo>
                <a:cubicBezTo>
                  <a:pt x="16144" y="16131"/>
                  <a:pt x="13568" y="18690"/>
                  <a:pt x="10800" y="18690"/>
                </a:cubicBezTo>
                <a:lnTo>
                  <a:pt x="9138" y="18690"/>
                </a:lnTo>
                <a:cubicBezTo>
                  <a:pt x="6370" y="18690"/>
                  <a:pt x="3794" y="16131"/>
                  <a:pt x="3794" y="13363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9:05:17Z</dcterms:created>
  <dc:creator>User</dc:creator>
  <dc:description/>
  <dc:language>en-US</dc:language>
  <cp:lastModifiedBy>User</cp:lastModifiedBy>
  <dcterms:modified xsi:type="dcterms:W3CDTF">2014-10-30T03:25:02Z</dcterms:modified>
  <cp:revision>1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